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613-9A7D-4C6E-8D15-21FD9297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237-8DE1-4DB1-8268-A9D95876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D1B-2E48-4508-B85E-FACF90ED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366-DB0B-42D8-807C-17784624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6676-3B3F-4169-B9ED-617CFA21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AD3A-D6C3-4D2D-BCDE-3D42D9C0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7EC4-B409-4113-A05C-838E4082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269E-B01E-48A9-94C6-81577F1C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9203-1DE7-41DC-A2EB-F89B633F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8D90-2FA7-4339-983A-8B3DB098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2FF-8ACE-41BC-A27E-A550A729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F3E-E442-4AB4-B8B5-B38A0AB1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5404-C8CB-49AF-B0CE-4053BB4A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93B4-9CA1-45C4-B5AA-91BB3F7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63A5-EE8A-4EC1-9A5D-2AEA873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85FA-8B61-42D1-A3E5-6C02E14E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71C5-EE5E-4CDC-BF10-34A19C85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917-04BD-4508-AC75-85F2FBD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2B8-3634-48C3-ACD3-D02E07C5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1F9-2FE2-4648-83DF-70570534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681-2236-4FCB-A8EB-D23961E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3C6-03E0-40EB-87CF-8D46405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906-286F-4B69-89DC-A7E876A3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B2E-F771-4C3E-9907-00706D0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A6F8-CAF9-419F-A737-DA282AFD31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C5A5-0FE1-475E-A542-B36DAA4ED0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graphics8.nytimes.com/images/2008/12/15/us/15blago-480.jpg&amp;imgrefurl=http://thecaucus.blogs.nytimes.com/2008/12/19/blagojevich-to-make-statement/&amp;usg=__mAXb3rrwJ6qmFiIbOiu7Y8cIngg=&amp;h=274&amp;w=480&amp;sz=25&amp;hl=en&amp;start=4&amp;tbnid=2RTacCoxjummrM:&amp;tbnh=74&amp;tbnw=129&amp;prev=/images%3Fq%3Dpictures%2Bof%2Bblagojevich%26hl%3Den%26sa%3D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r going shopping for cloths i hope the children if they wish can come with me to main street to watch the thanksgiving day pa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opho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ell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pital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no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ad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’re going shopping for clothes, I hope the children, if they wish, can come with me to Main Street to watch the Thanksgiving Day par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exa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 of annoying or irrit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estilen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usually fatal epidemic disease, evi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quisitiv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n to inquiry, research, or asking questions; eager for knowledge; intellectually curio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ild is inquisitive and always ask a million ques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dific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al improvement or guid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 priest offered the man edification for his bad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ar Sent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e up with at least one sentence using 5 of the vocabulary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Dialect-The author uses Southern dialect extensively to provide a more authentic portrayal of the people. Rewrite each of these examples of southern dialect into standard speech.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Looks like if Mr. Arthur was hankerin’ after heaven he’d come out on the porch at l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cious child, I was raveling a thread, wasn’t even thinking about your fa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awl write, hear? he bawled after 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one paragraph using dialect in some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TKAM-Ch. 5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Ch. 5 for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ocused Freewrite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5 minut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$100,000 per year digging holes with a shovel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$30,000 per year playing your favorite sport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ocabulary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word doesn’t have a sentence, write one for it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llicitl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permit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 Governor has been accused of illicit acti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886200"/>
            <a:ext cx="4419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ranqui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from commotion or tum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32004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equit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ck of equity; unfairness; favoritism or bi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 trial was filled with inequ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590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ractio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ily angered or unru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 student was kicked out of the game for fractious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sapprob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ppr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tific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iliation or sh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25:28Z</dcterms:created>
  <dc:creator>rebecca</dc:creator>
  <dc:description/>
  <dc:language>en-US</dc:language>
  <cp:lastModifiedBy>rebecca</cp:lastModifiedBy>
  <dcterms:modified xsi:type="dcterms:W3CDTF">2009-01-26T17:59:51Z</dcterms:modified>
  <cp:revision>2</cp:revision>
  <dc:subject/>
  <dc:title>DOL</dc:title>
</cp:coreProperties>
</file>